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A5F-E34B-453E-B900-31BFD784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C70-8215-42D3-A2F1-A412EA91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FA4D-57AB-4A33-81AE-0DC21938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1A0A-0779-4694-B10C-C3EFAAC1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B92-62E7-49AC-805E-20BC6F92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E4F-2EED-47A9-81FB-76DCF2CB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DBF8-F3B9-4126-9DDF-8BF52EE2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07ED-0BC0-4197-A866-9C590DEB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3532-EBD3-453B-B7D1-BFFFE8B0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4C8-B8FC-456B-B2E6-C4A94F3E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828-D070-4B2E-BB39-D4757CBE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983-7F48-4BDA-8C1A-3244A7AE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A637-0538-4C2E-BB09-5146A99B1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asa para la Ven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2971800" cy="197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57600" y="106668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asa grande es muy bonita. Tinene viente cuartos. La casa es en Las Angeles, CA. La casa tiene diez dormitorios. Cuesta mucho. Cuesta $24,000,000.04. Una piscina y un enorme patio. El direccion es 345 Park Street. Es Fabulouso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4:13:04Z</dcterms:created>
  <dc:creator>wilsonaleah</dc:creator>
  <dc:description/>
  <dc:language>en-US</dc:language>
  <cp:lastModifiedBy>wilsonaleah</cp:lastModifiedBy>
  <dcterms:modified xsi:type="dcterms:W3CDTF">2012-05-29T18:45:24Z</dcterms:modified>
  <cp:revision>5</cp:revision>
  <dc:subject/>
  <dc:title>La casa para la Venta </dc:title>
</cp:coreProperties>
</file>